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a4141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" name="Line 34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12600">
            <a:solidFill>
              <a:srgbClr val="ca22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3" name="Line 35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12600">
            <a:solidFill>
              <a:srgbClr val="ca22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pic>
        <p:nvPicPr>
          <p:cNvPr id="4" name="Picture 36" descr=""/>
          <p:cNvPicPr/>
          <p:nvPr/>
        </p:nvPicPr>
        <p:blipFill>
          <a:blip r:embed="rId2"/>
          <a:stretch/>
        </p:blipFill>
        <p:spPr>
          <a:xfrm>
            <a:off x="7696080" y="6113520"/>
            <a:ext cx="14479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1260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pic>
        <p:nvPicPr>
          <p:cNvPr id="43" name="Picture 16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504972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"/>
          <p:cNvPicPr/>
          <p:nvPr/>
        </p:nvPicPr>
        <p:blipFill>
          <a:blip r:embed="rId3"/>
          <a:stretch/>
        </p:blipFill>
        <p:spPr>
          <a:xfrm>
            <a:off x="324000" y="29052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a4141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5680"/>
            <a:ext cx="9188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Kampagne Piratenpartei </a:t>
            </a:r>
            <a:br>
              <a:rPr sz="2800"/>
            </a:b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Landtagswahl NRW 2010</a:t>
            </a:r>
            <a:br>
              <a:rPr sz="2800"/>
            </a:br>
            <a:endParaRPr b="1" lang="en-US" sz="2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0" y="515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Verdana"/>
              </a:rPr>
              <a:t>11.11.2009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0" y="378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3232"/>
                </a:solidFill>
                <a:latin typeface="Verdana"/>
              </a:rPr>
              <a:t>Strategische Politische Kommunikation </a:t>
            </a:r>
            <a:endParaRPr b="0" lang="en-US" sz="26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Organisationsziele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sche Positionierung auf Landeseb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kanntheitsgrad weiter steig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ähler, Mitglieder und Geld dazugewin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Kommunikationsziele für die Kampagne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2960" y="9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gene Themen etablieren, zu mehr Aufmerksamkeit verhel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g vom Image der Protestpartei, hin zu einer politischen Kraft der Zukun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chwächung von Vorurteilen gegenüber der Partei (z.B. Kinderpornographi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Gegner“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üne und Freie Wähler (direkte Konkurrenten im Kampf um Wählerstimme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wertungsindustrie (setzt sich stark für die Ausweitung von Copyright im Internet ein, will „eine ganze Generation kriminalisieren“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DU als politischer Gegner (steht für Online-Überwachung und Studiengebühre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26" name="Textfeld 5"/>
          <p:cNvSpPr/>
          <p:nvPr/>
        </p:nvSpPr>
        <p:spPr>
          <a:xfrm>
            <a:off x="4000680" y="5438880"/>
            <a:ext cx="407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http://www.sendung-mit-dem-internet.de/2009/07/06/interview-mit-jens-seipenbusch-bundesvorsitzender-piratenpartei/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Partner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udenten und Schülervereinigungen (über Demos und Bildungsstreik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lin: Partnerschaft mit der „Netaudio Bar“ (will frei lizenzierte Musik kostenlos auch außerhalb der Netaudio Szene bekannter zu mach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Ähnliche Partner in NR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haos Computer Clu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31" name="Textfeld 5"/>
          <p:cNvSpPr/>
          <p:nvPr/>
        </p:nvSpPr>
        <p:spPr>
          <a:xfrm>
            <a:off x="5286240" y="5000760"/>
            <a:ext cx="307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http://www.piratenbrandenburg.de/tag/chaos-computer-club/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www.openpr.de/news/339972/Berliner-Netaudio-Bar-kooperiert-mit-Piratenpartei.html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Zielgrupp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ge, besser gebildete Menschen (unter denen: viele Politikinteressierte, die auf dem gegenwärtigen Parteienmarkt nichts find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ähler bei Europawahl: zu zwei Dritteln männlich, bis 35 Jahre, gut gebildet, leben in Großstäd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kbegeister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eneration C64, Digital Nativ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stwäh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e Wählerschaft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uen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st und Wechselwähl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36" name="Textfeld 5"/>
          <p:cNvSpPr/>
          <p:nvPr/>
        </p:nvSpPr>
        <p:spPr>
          <a:xfrm>
            <a:off x="5572080" y="5438880"/>
            <a:ext cx="25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http://www.tagesschau.de/inland/schoenenbornpiraten100.html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Them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Freiheit, Mitbestimmu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freihe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ürgerrech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utzrechte für geistige Werke und Erfindun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dungspoli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Inhalte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6760" y="1655640"/>
            <a:ext cx="8286840" cy="381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Keine Sperren im Net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Gege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„pauschale Verdächtigung und anlasslose Überwachung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de Datenherausgabe und Speicherung sowie Weiterverwendung muss ausdrücklich erlaubt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(egal ob Name bei einem Gewinnspiel oder biometrische Daten im Reisepa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Neufassung Urheberrecht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arenz bezogen auf die kontrollierenden Maßnahmen des Sta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Inhalte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956960"/>
            <a:ext cx="8643960" cy="28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mmunikationsgeheim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arenz bei Datenerhebungen allgemein, auch innerhalb der Privatwirtscha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ärtere Strafen für Datenverk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chaffung der Studiengebühren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hr Lehr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chaffung Zentralabit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W muss im PISA-Vergleich aufho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hr Mitbestimmung in Unis und Schu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Botschaft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7786800" cy="50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aa41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Image: Junge Partei, die sich gezielt für di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„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Generation 2.0“ einsetz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a41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Piratenpartei = Partei der Zukunf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a41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Im Gegensatz zu den „Etablierten“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Partei ist noch offen, formbar und sehr persönli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a41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Großes Mitspracherecht für den Einzelnen v.A. über die Homepage, selbst beim Parteiprogram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(Nicht nur Top-down Kommunikatio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a41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Angriff: „Wir verstehen die jungen Leute viel besser, da wir ihre Themen durch aktive Partizipation live erleben“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a41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Die etablierten Parteien haben zu wenig Netzerfahrung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Verdana"/>
              </a:rPr>
              <a:t>sind nicht up-to-d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Kommunikationsmaßnahm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2398680"/>
            <a:ext cx="634032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23232"/>
                </a:solidFill>
                <a:latin typeface="Verdana"/>
              </a:rPr>
              <a:t>Image-Kampagn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23232"/>
                </a:solidFill>
                <a:latin typeface="Verdana"/>
              </a:rPr>
              <a:t>Eng begrenztes Agenda-Surf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Einstieg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tagswahl NRW 2010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 geht´s hin mit der Piratenpartei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4" descr="C:\Dokumente und Einstellungen\OS\Desktop\piraten-auf-kurs1.jpg"/>
          <p:cNvPicPr/>
          <p:nvPr/>
        </p:nvPicPr>
        <p:blipFill>
          <a:blip r:embed="rId1"/>
          <a:stretch/>
        </p:blipFill>
        <p:spPr>
          <a:xfrm>
            <a:off x="1857240" y="1428840"/>
            <a:ext cx="5429520" cy="38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Kommunikationsinstrumente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4240" y="1881000"/>
            <a:ext cx="795816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vor allem: Internet und Social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Podiumsdiskussion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323232"/>
                </a:solidFill>
                <a:latin typeface="Verdana"/>
              </a:rPr>
              <a:t>Wahlkampfstän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Medi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8400" y="1244520"/>
            <a:ext cx="8072280" cy="53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Internet: interaktive Homepages (Buchempfehlungen zu Parteithemen, Vorstandsblog und Videos mit Kommentarfunktion etc.), Youtub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laut Google Analyse: 240.000 Visitors auf Piraten-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Homepage im August 2009 (wie CDU+SPD zusamme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Flyer-Verteilung auf Bildungsstreiks, Demos und in Fußgängerzonen (in Verbindung mit Aufmerksamkeit erregenden Aktionen z.B. Aufstellen von Kamera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Einbindung der Lokalpres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Plakate (kreativ/ selbst gestaltbar oder provokan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Computer/ Gamingmagaz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1900" spc="-1" strike="noStrike">
                <a:solidFill>
                  <a:srgbClr val="323232"/>
                </a:solidFill>
                <a:latin typeface="Verdana"/>
              </a:rPr>
              <a:t>Bei Interesse an Entwicklung der Partei: Politmagaz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Medi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pic>
        <p:nvPicPr>
          <p:cNvPr id="168" name="Picture 7" descr="C:\Dokumente und Einstellungen\OS\Desktop\zitat-zypries.png"/>
          <p:cNvPicPr/>
          <p:nvPr/>
        </p:nvPicPr>
        <p:blipFill>
          <a:blip r:embed="rId1"/>
          <a:stretch/>
        </p:blipFill>
        <p:spPr>
          <a:xfrm>
            <a:off x="2214720" y="2214720"/>
            <a:ext cx="4143240" cy="2288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kumente und Einstellungen\OS\Desktop\images.jpg"/>
          <p:cNvPicPr/>
          <p:nvPr/>
        </p:nvPicPr>
        <p:blipFill>
          <a:blip r:embed="rId2"/>
          <a:stretch/>
        </p:blipFill>
        <p:spPr>
          <a:xfrm>
            <a:off x="6215040" y="4500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Zeitplanung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29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ort startend bis zur Wahl: Präsenz in Expertenrunden, Verbrauchermagazi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8 Wochen vor der Wahl: intensive Kooperationen mit PC- und Gamingmagazinen, sowie Social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 Wochen vor der Wahl: Straßenwahlkampf mit Wahlkampfständen, Plakaten, Flyern, persönlicher Ansprache, provokanten Aktionen, Einbindung der Lokalpres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Kost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a. 10.000 Euro für Kooperationen mit Zeitschriften, Social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a. 20.000 Euro für Straßenwahlkamp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Angestrebte Wirkung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508720" y="6453360"/>
            <a:ext cx="215892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Bewertung des Erfolg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2960" y="1271880"/>
            <a:ext cx="8315280" cy="55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Neues Image: Mehrthemenpartei stat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„</a:t>
            </a: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Nerd-Vereinigung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Profilierung als spezifische Partei der junge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besser gebildeten Le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Hervorheben der Inkompetenz der anderen Parteien bezüglich Internetfra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Mitgliederzuwachs, v.A. auch Frau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323232"/>
                </a:solidFill>
                <a:latin typeface="Verdana"/>
              </a:rPr>
              <a:t>Hinzugewinn von Sympathisanten, Mitgliedern und Wählern -&gt; Mehr G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Mögliche Risik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508720" y="6453360"/>
            <a:ext cx="215892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Bewertung des Erfolg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82440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Verlust von Wählern durch Entfernung von der „Kernkompetenz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Kein Erfolg = „Eintagsfliege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Durch Themenausweitung: Verlust des klaren Prof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23232"/>
                </a:solidFill>
                <a:latin typeface="Verdana"/>
              </a:rPr>
              <a:t>Position gegen Studiengebühren von anderen Parteien abgedeckt, hier kaum Wählerfang mögl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223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Evaluation: Verfahren und Erfolgsindikator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ichprobenartige Umfragen in Innenstäd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eedback durch selbst gestaltbare Plakate und Kommentare auf der Piraten-Home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prüfung des Kampagnenerfolges durch stetiges analysieren von Umfragen auf Social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ysieren von verschiedenen Wahlprogno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508720" y="6453360"/>
            <a:ext cx="215892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Bewertung des Erfolg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Diskussio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 Piratenparte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rnstzunehmende politische Kraft der Zukunf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der Eintagsflieg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508720" y="6453360"/>
            <a:ext cx="215892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Bewertung des Erfolg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Quellen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296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welt.de/politik/article4431208/Piratenpartei-zieht-in-NRW-Stadtparlamente-ein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piratenpartei.de/navigation/politik/unsere-zie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taz.de/1/leben/internet/artikel/1/die-wandlung-der-frea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taz.de/1/debatte/kommentar/artikel/1/piratenpartei-die-neuen-guten/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wortfeld.de/2009/06/auf-piratensuche/ + http://www.welt.de/politik/article4431208/Piratenpartei-zieht-in-NRW-Stadtparlamente-ein.htm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taz.de/1/politik/deutschland/artikel/1/auf-schlingerkurs/   + http://www.emma.de/pascha_2009_6.htm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iki.piratenpartei.de/Nr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iki.piratenpartei.de/NRW-Web:Kontak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tagesschau.de/inland/schoenenbornpiraten100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sendung-mit-dem-internet.de/2009/07/06/interview-mit-jens-seipenbusch-bundesvorsitzender-piratenparte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live.piratenpartei.de/blog/aktuell-was-alles-dafuer-spricht-die-piraten-zu-waehlen-und-keine-andere-part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politik.germanblogs.de/archive/2009/08/27/das-wahlprogramm-der-piratenpartei-deutschland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live.piratenpartei.de/blog/ein-beispielhaftes-ueberzeugungsgespraech-fuer-die-piratenpart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klarmachen-zum-aendern.de/category/strasenwahlkampf/#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knetfeder.de/magazin/2009/thema/piratenparte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508720" y="6453360"/>
            <a:ext cx="215892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Bewertung des Erfolg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Überblick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cht des Akteu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sgangsl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ategische Kommunikationsplanu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ku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Schluss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050920" y="6451560"/>
            <a:ext cx="345780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Strategische Kommunikationsplanung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508720" y="6453360"/>
            <a:ext cx="2158920" cy="276480"/>
          </a:xfrm>
          <a:prstGeom prst="rect">
            <a:avLst/>
          </a:prstGeom>
          <a:noFill/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Bewertung des Erfolg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42932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Verdana"/>
              </a:rPr>
              <a:t>Warum sind keine Mathematiker Mitglieder der Piratenparte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Verdana"/>
              </a:rPr>
              <a:t>Weil sie „Pi“ raten 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Situationsanalyse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8588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chtungserfolg bei der Bundestagswah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2% bzw. ca. 900.000 Stimmen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 an Anhängern und Sympathisanten, Erfahrung, Selbstbewußtse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urz vor dem Knacken der 12.000 Mitglieder-Hür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on Erfolge auf kommunaler Ebene in NR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ster Regionalwahlkampf – unerfah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zug in den Landtag fraglich (5-Prozent-Hür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feld 4"/>
          <p:cNvSpPr/>
          <p:nvPr/>
        </p:nvSpPr>
        <p:spPr>
          <a:xfrm>
            <a:off x="2286000" y="5357880"/>
            <a:ext cx="614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klarmachen-zum-aendern.de/category/strasenwahlkampf/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www.welt.de/politik/article4431208/Piratenpartei-zieht-in-NRW-Stadtparlamente-ein.html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Profil des Akteurs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97" name="Textfeld 4"/>
          <p:cNvSpPr/>
          <p:nvPr/>
        </p:nvSpPr>
        <p:spPr>
          <a:xfrm>
            <a:off x="4071960" y="5286240"/>
            <a:ext cx="42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http://live.piratenpartei.de/_wahlprogramm-2009 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www.taz.de/1/leben/internet/artikel/1/die-wandlung-der-freaks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377000"/>
            <a:ext cx="7715160" cy="43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23232"/>
                </a:solidFill>
                <a:latin typeface="Verdana"/>
              </a:rPr>
              <a:t>Junge, internet- und technikaffine Parte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23232"/>
                </a:solidFill>
                <a:latin typeface="Verdana"/>
              </a:rPr>
              <a:t>Drei Hauptthe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teidigung der Grund- &amp; Bürgerrech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bestimmung &amp; transparente Kontrol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atlicher Vorgä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reier Zugang zu Bildung &amp; Kultu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„neuen Grünen“ der Technik-Gesellschaf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Stärken des Akteurs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35684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sher in der Parteienlandschaft ungekannte Ideologiefreih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ßes Potenzial bei jungen und technikbegeisterten Wählern (hauptsächlich Männern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ratenpartei füllt „Angebotsvakuum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ma Internet: glaubwürdigste, kompetent wirkende Part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buClr>
                <a:srgbClr val="a414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zige Partei, die hauptsächlich Interessen der unter 35-Jährigen vertri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rtenpartei, verschafft bestimmten Themen auf der politischen Bühne mehr Aufmerksamk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feld 4"/>
          <p:cNvSpPr/>
          <p:nvPr/>
        </p:nvSpPr>
        <p:spPr>
          <a:xfrm>
            <a:off x="2428920" y="5857920"/>
            <a:ext cx="586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</a:t>
            </a:r>
            <a:r>
              <a:rPr b="0" lang="de-DE" sz="1200" spc="-1" strike="noStrike">
                <a:solidFill>
                  <a:srgbClr val="323232"/>
                </a:solidFill>
                <a:latin typeface="Matura MT Script Capitals"/>
              </a:rPr>
              <a:t> </a:t>
            </a: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www.taz.de/1/debatte/kommentar/artikel/1/piratenpartei-die-neuen-guten http://www.wortfeld.de/2009/06/auf-piratensuch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Stärken des Akteurs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tenschutz, Privatsphäre und Kampf gegen den „Überwachungsstaat“ als sehr spezifische Kernthe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erner: Spartenthemen wie Open Acces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rheber- und Patentrech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nig im Verdacht, sich von Lobbys beeinflussen zu 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a41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risch, unbelastet und noch form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feld 4"/>
          <p:cNvSpPr/>
          <p:nvPr/>
        </p:nvSpPr>
        <p:spPr>
          <a:xfrm>
            <a:off x="4857840" y="5438880"/>
            <a:ext cx="321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http://www.knetfeder.de/magazin/2009/thema/piratenpartei/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Schwächen des Akteurs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68360" y="6453360"/>
            <a:ext cx="1582560" cy="27648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a4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3232"/>
                </a:solidFill>
                <a:latin typeface="Verdana"/>
              </a:rPr>
              <a:t>Ausgangslage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09" name="Textfeld 4"/>
          <p:cNvSpPr/>
          <p:nvPr/>
        </p:nvSpPr>
        <p:spPr>
          <a:xfrm>
            <a:off x="3857760" y="5643720"/>
            <a:ext cx="436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Quelle: http://www.taz.de/1/politik/deutschland/artikel/1/auf-schlingerkurs/ 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75722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Öffentliche Wahrnehmung als „Ein-Themen-Partei“, deshalb relativ abhängig von dies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Ideologiefreiheit: Lagerwähler werden nicht angesproc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st programmatisch deutlich dünner als große Parte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Hauptthema Internetfreiheit: sorgt auf Bundesebene für mehr Aufmerksamk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Verdana"/>
              </a:rPr>
              <a:t>Parteiname lässt Spaßpartei vermu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Verdana"/>
              </a:rPr>
              <a:t>Schwächen des Akteurs</a:t>
            </a:r>
            <a:endParaRPr b="1" lang="en-US" sz="24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hr maskulin gepräg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eine Identifikationsfig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ringe Organisation im Landesverb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ngel an Finanzkraft (nur ca. 30000 Euro Wahlkampfbudg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rraussichtliches Scheitern an 5% Hürde – Warum wähl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000680" y="5429160"/>
            <a:ext cx="371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0d0d"/>
                </a:solidFill>
                <a:latin typeface="Verdana"/>
              </a:rPr>
              <a:t>Quelle: </a:t>
            </a: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wiki.piratenpartei.de/NRW-Web:Kontakt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23232"/>
                </a:solidFill>
                <a:latin typeface="Verdana"/>
              </a:rPr>
              <a:t>http://www.emma.de/pascha_2009_6.html</a:t>
            </a:r>
            <a:endParaRPr b="0" lang="en-US" sz="1200" spc="-1" strike="noStrike">
              <a:solidFill>
                <a:srgbClr val="323232"/>
              </a:solidFill>
              <a:latin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1:17:52Z</dcterms:created>
  <dc:creator>Office X</dc:creator>
  <dc:description/>
  <dc:language>en-US</dc:language>
  <cp:lastModifiedBy>mschrade</cp:lastModifiedBy>
  <dcterms:modified xsi:type="dcterms:W3CDTF">2009-11-26T09:52:56Z</dcterms:modified>
  <cp:revision>512</cp:revision>
  <dc:subject/>
  <dc:title>Sozialwissenschaftliches Institut</dc:title>
</cp:coreProperties>
</file>