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5AEF-D808-45C0-80E6-FA1364B9A9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grüßu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ä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e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ir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nk an Henri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rstellung F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orstellung Ti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geme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ten öffentlich zugänglich (Finanzverwaltung / Senatsverwaltu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ob an die Verwaltung für gute Übersichtlichkeit der Prä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2011 = Haushalt 2012 (Verabschiedung  Plan: Pfingsten 20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2012: keine offiziellen Daten / inoffizelle Entwürfe und  D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2216-2BDA-4123-80AB-029781714170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2011:    22,9 Mrd. EURO 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Einnahmen unvollständig =&gt; Finanzierungsdefizit feh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ushalt immer ausgeglichen    Einnahmen = Ausgab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fizit oder Überschü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ta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ewinne und Verlu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lanzahlen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ute Nachricht:     Neuverschuldung 2011 „nur“ 1,4 – 1,5 Mrd. E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chuldenbremse bis 20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wang zum ausgeglichenen Haushalt 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EZ – Bundesergänzungszuweisungen (zusätzlicher Länderfinanzausglei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0220-DB3A-45D4-94AB-47AFF37448EB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undessteuern  vs. Ländersteu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besatz GewSt Berlin: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XXX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besatz GrSt Berlin: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XXX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besatz GrESt Berlin:    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XXX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euereinnahmen unter direktem Einfluss des Landes Berlin 24% (!!!) (GewSt + GrSt + GrESt + Sonstige 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her Einfluss von Konjunktur und Bundespolit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3139-3FC3-4887-848B-AE3EDEA7AF63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uverschuldung EUR 2,7 Mrd. (Plan 201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samteinnahmen = Ausgabe EUR 22,0 M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fizit 2011: 12,3%  (Griechenland aktuell 8,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BD8E-25E1-4886-8E45-D5401FE1F829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schmelzen der Solidarpaktmittel bis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solidierungsbedarf EUR 1,5 M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EE2-4EB3-4B17-9CBD-AD4363640DA2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lles wird g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oblem: Ist abweichend zum Soll 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9778-0B44-4B95-B0D9-CB50479E08A2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1E23-8BD1-41A5-89DE-5FC1DF10EAAA}" type="slidenum">
              <a:rPr b="0" lang="de-DE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D690-B042-416D-802A-7D3A585A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9D29-FC59-4483-AC97-CF4EA60E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7692-D95D-4E5A-BEA1-40537A74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938A-AE6D-43C9-A007-B83222B0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E7F3-AB2E-4B5B-AC12-B6A58664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5CE4-EF45-450B-99CD-708601E9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0505-61FD-4BF0-B322-972C4F38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645F-96E2-4ED6-8CEB-6CA6EF01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726E-D068-4F12-9153-8E8993FC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E716-2D10-4670-9BAB-984E817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3A41-4876-46A4-A97B-842FE72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AEA5-72C5-4AA5-A395-783DB3F3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2D42-F4FA-4CDB-8BCA-D7C93EDC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4909-000A-4DC7-8253-9BB684BB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EE01-C0C0-430F-8741-3D386E1D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26FF-582F-4B49-A904-0B809D9F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9754-8809-476A-B145-44A93AC9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89DA-A6A4-4F31-AECB-5FFECF10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788C-F30B-4B9A-AAA2-CB73FA8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A65B-E9E8-41DE-9299-0DE4D5C5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08B3-0E55-4C73-9897-6C96AE38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F679-3EA8-430A-A111-D3C3A18A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91FE-1DAA-4BCF-96BC-02522457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21D0-F9BD-47A8-9BD5-DED2871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84EA-4C46-4C56-B854-3DDE2106645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43BC-B875-47AD-BC43-AC076580458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 u="sng">
                <a:solidFill>
                  <a:srgbClr val="e5e5ff"/>
                </a:solidFill>
                <a:uFillTx/>
                <a:latin typeface="Cambria"/>
              </a:rPr>
              <a:t>Berliner Haushalt:</a:t>
            </a:r>
            <a:br>
              <a:rPr sz="5400"/>
            </a:br>
            <a:r>
              <a:rPr b="1" lang="de-DE" sz="5400" spc="-1" strike="noStrike">
                <a:solidFill>
                  <a:srgbClr val="e5e5ff"/>
                </a:solidFill>
                <a:latin typeface="Cambria"/>
              </a:rPr>
              <a:t>Einnahmen, Ausgaben, Verschuldung(-swahn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v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r. Franz Josef Schm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WP Tibor Jens Sch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Berlin, 14.12.20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oliennummernplatzhalter 1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BBC2-A3BE-4D64-80F7-E0FE2FA94A9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E5E-F7CD-4312-8D8D-073923FFFAD8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12" name="Ellipse 1"/>
          <p:cNvSpPr/>
          <p:nvPr/>
        </p:nvSpPr>
        <p:spPr>
          <a:xfrm>
            <a:off x="3924360" y="3500280"/>
            <a:ext cx="1224000" cy="649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Gerade Verbindung 3"/>
          <p:cNvSpPr/>
          <p:nvPr/>
        </p:nvSpPr>
        <p:spPr>
          <a:xfrm flipV="1">
            <a:off x="4788000" y="1557360"/>
            <a:ext cx="1655640" cy="172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Gerade Verbindung 5"/>
          <p:cNvSpPr/>
          <p:nvPr/>
        </p:nvSpPr>
        <p:spPr>
          <a:xfrm>
            <a:off x="4535640" y="5084640"/>
            <a:ext cx="17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43BC-AFA7-44C9-BE89-F7636DE84BA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17" name="Gerade Verbindung 40"/>
          <p:cNvSpPr/>
          <p:nvPr/>
        </p:nvSpPr>
        <p:spPr>
          <a:xfrm>
            <a:off x="5148360" y="3716280"/>
            <a:ext cx="1368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Gerade Verbindung 14"/>
          <p:cNvSpPr/>
          <p:nvPr/>
        </p:nvSpPr>
        <p:spPr>
          <a:xfrm>
            <a:off x="2556000" y="2205000"/>
            <a:ext cx="1368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Gerade Verbindung 16"/>
          <p:cNvSpPr/>
          <p:nvPr/>
        </p:nvSpPr>
        <p:spPr>
          <a:xfrm>
            <a:off x="1871640" y="3068640"/>
            <a:ext cx="13683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Gerade Verbindung 17"/>
          <p:cNvSpPr/>
          <p:nvPr/>
        </p:nvSpPr>
        <p:spPr>
          <a:xfrm>
            <a:off x="468360" y="4149720"/>
            <a:ext cx="1511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9BC9-0DC4-444F-A609-9B910A0F116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23" name="Gerade Verbindung 3"/>
          <p:cNvSpPr/>
          <p:nvPr/>
        </p:nvSpPr>
        <p:spPr>
          <a:xfrm>
            <a:off x="1908000" y="3284640"/>
            <a:ext cx="1151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88EB-C69A-496F-8C20-01FBBBF92B7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26" name="Ellipse 3"/>
          <p:cNvSpPr/>
          <p:nvPr/>
        </p:nvSpPr>
        <p:spPr>
          <a:xfrm>
            <a:off x="4284720" y="5950080"/>
            <a:ext cx="71892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Ellipse 4"/>
          <p:cNvSpPr/>
          <p:nvPr/>
        </p:nvSpPr>
        <p:spPr>
          <a:xfrm>
            <a:off x="4356000" y="206064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Ellipse 5"/>
          <p:cNvSpPr/>
          <p:nvPr/>
        </p:nvSpPr>
        <p:spPr>
          <a:xfrm>
            <a:off x="8028000" y="5958000"/>
            <a:ext cx="72072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18E-B38F-4E19-BD6D-83532537838F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Inhaltsplatzhalter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5977080"/>
          </a:xfrm>
          <a:prstGeom prst="rect">
            <a:avLst/>
          </a:prstGeom>
          <a:ln w="0">
            <a:noFill/>
          </a:ln>
        </p:spPr>
      </p:pic>
      <p:sp>
        <p:nvSpPr>
          <p:cNvPr id="131" name="Herz 1"/>
          <p:cNvSpPr/>
          <p:nvPr/>
        </p:nvSpPr>
        <p:spPr>
          <a:xfrm>
            <a:off x="5219640" y="549360"/>
            <a:ext cx="2665440" cy="1439640"/>
          </a:xfrm>
          <a:prstGeom prst="pie">
            <a:avLst/>
          </a:prstGeom>
          <a:solidFill>
            <a:srgbClr val="f1500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514"/>
                </a:solidFill>
                <a:latin typeface="Cambria"/>
              </a:rPr>
              <a:t>Alles wird gut !!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5e5ff"/>
                </a:solidFill>
                <a:latin typeface="Cambria"/>
              </a:rPr>
              <a:t>Berliner Hausha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ffffff"/>
                </a:solidFill>
                <a:uFillTx/>
                <a:latin typeface="Cambria"/>
              </a:rPr>
              <a:t>Fazit Einnahm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Nur 33% der Einnahmen unter direktem Einfluss des Landes Berl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efizit 2011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Plan: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2,7 Mrd. Euro (Quote 12,3 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Ist: 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1,4 Mrd. Euro (Quote 6,4 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efizitabbau bis 2020 (8 Jahre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Solidarpakt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1,5 Mrd. Eu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Neuverschuldung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1,4 Mrd. Eur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Cambria"/>
              </a:rPr>
              <a:t>Defizitabbau:     360 - 380 Mio. Euro p.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Foliennummernplatzhalt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5399-34B8-4D1C-8692-4063FDC6FBA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feil nach rechts 5"/>
          <p:cNvSpPr/>
          <p:nvPr/>
        </p:nvSpPr>
        <p:spPr>
          <a:xfrm>
            <a:off x="539640" y="5805360"/>
            <a:ext cx="1008000" cy="503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2f2f2"/>
          </a:solidFill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0:00:02Z</dcterms:created>
  <dc:creator>Horst</dc:creator>
  <dc:description/>
  <dc:language>en-US</dc:language>
  <cp:lastModifiedBy>mlehofer</cp:lastModifiedBy>
  <dcterms:modified xsi:type="dcterms:W3CDTF">2012-02-14T00:26:19Z</dcterms:modified>
  <cp:revision>103</cp:revision>
  <dc:subject/>
  <dc:title>Folie 1</dc:title>
</cp:coreProperties>
</file>