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B1E0-E513-44F2-A992-4069485A45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grüßu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ä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es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ir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nk an Henri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rstellung F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rstellung Ti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lgeme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ten öffentlich zugänglich (Finanzverwaltung / Senatsverwaltu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ob an die Verwaltung für gute Übersichtlichkeit der Prä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ushalt 2011 = Haushalt 2012 (Verabschiedung  Plan: Pfingsten 201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ushalt 2012: keine offiziellen Daten / inoffizelle Entwürfe und  D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5789-1086-48BC-87D8-18467911E9A1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ushalt 2011:    22,9 Mrd. EURO 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nahmen unvollständig =&gt; Finanzierungsdefizit feh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ushalt immer ausgeglichen    Einnahmen = Ausgab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fizit oder Überschüs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winne und Verlu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lanzahlen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ute Nachricht:     Neuverschuldung 2011 „nur“ 1,4 – 1,5 Mrd. E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uldenbremse bis 20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wang zum ausgeglichenen Haushalt !!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Z – Bundesergänzungszuweisungen (zusätzlicher Länderfinanzausglei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330E-B574-4903-BB2B-C78968A30571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ndessteuern  vs. Ländersteu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ebesatz GewSt Berlin: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XXX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ebesatz GrSt Berlin: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XXX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ebesatz GrESt Berlin: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XXX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euereinnahmen unter direktem Einfluss des Landes Berlin 24% (!!!) (GewSt + GrSt + GrESt + Sonstige 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her Einfluss von Konjunktur und Bundespolit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E3AA-674A-4A78-B17A-95D517869EE3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uverschuldung EUR 2,7 Mrd. (Plan 201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samteinnahmen = Ausgabe EUR 22,0 M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fizit 2011: 12,3%  (Griechenland aktuell 8,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1616-0665-4C36-B30F-DE0F2BE1DA59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schmelzen der Solidarpaktmittel bis 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solidierungsbedarf EUR 1,5 M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BFB3-5F3A-4A38-912D-E46768BE7913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les wird g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oblem: Ist abweichend zum Soll 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ACB7-B6EC-42DA-881E-6C22D93DBFF4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2AC3-C3F3-48C1-8122-3C5195FA441A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0B57-55C5-429C-8645-6558E0A9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1130-6107-4F23-A4B5-B744691C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5D99-83C1-4EE2-9D0D-0CFE8E32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A8AA-AAB8-4960-BFFE-A7482A9B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5AF3-C112-4A82-BA12-6E962031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2BB4-096B-4F2E-8718-48E9FCC9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66D5-97FF-4002-BD00-7C4F86ED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BC60-DAFF-4900-8CF3-14B64DBE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3FDB-546F-4372-A738-4000CBB1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6015-8579-47F2-886E-A3632E39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77BF-4DEB-446E-AFA6-1737EBE7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30F3-3AD3-4538-B826-4673D9F2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53C8-12DF-4B8F-BD92-DD8E55C5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F36A-600C-4C2A-8B47-70B03C16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849B-8B85-4F61-8641-BA767FC6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2CAD-D9AC-4DA6-9CE2-68720CEB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9416-1DF3-4429-94CE-8512B703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0A14-46FA-4B13-8A8C-C2B7E3F3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98E4-AEAB-4324-A90C-C431E08B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8111-DEE8-423F-8A94-0181A7FD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8DED-013C-4278-A8B5-7C088210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CE91-4286-4CF2-90FA-E29B8EA7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7B0B-C3A2-4D48-9162-7DA4443F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DB19-0C12-4CBF-94DD-760BC015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21DB-D800-4842-8B73-5A6F959FDC4E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54E2-17B3-463D-AC2C-EEE05F42A57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 u="sng">
                <a:solidFill>
                  <a:srgbClr val="e5e5ff"/>
                </a:solidFill>
                <a:uFillTx/>
                <a:latin typeface="Cambria"/>
              </a:rPr>
              <a:t>Berliner Haushalt:</a:t>
            </a:r>
            <a:br>
              <a:rPr sz="5400"/>
            </a:br>
            <a:r>
              <a:rPr b="1" lang="de-DE" sz="5400" spc="-1" strike="noStrike">
                <a:solidFill>
                  <a:srgbClr val="e5e5ff"/>
                </a:solidFill>
                <a:latin typeface="Cambria"/>
              </a:rPr>
              <a:t>Einnahmen, Ausgaben, Verschuldung(-swahn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v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Dr. Franz Josef Schm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WP Tibor Jens Scha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Berlin, 14.12.20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Foliennummernplatzhalter 1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2C43-2FF7-4BCC-8814-5A787F20361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5D9E-231C-4538-BA6D-C621C926771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12" name="Ellipse 1"/>
          <p:cNvSpPr/>
          <p:nvPr/>
        </p:nvSpPr>
        <p:spPr>
          <a:xfrm>
            <a:off x="3924360" y="3500280"/>
            <a:ext cx="1224000" cy="649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Gerade Verbindung 3"/>
          <p:cNvSpPr/>
          <p:nvPr/>
        </p:nvSpPr>
        <p:spPr>
          <a:xfrm flipV="1">
            <a:off x="4788000" y="1557360"/>
            <a:ext cx="1655640" cy="172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Gerade Verbindung 5"/>
          <p:cNvSpPr/>
          <p:nvPr/>
        </p:nvSpPr>
        <p:spPr>
          <a:xfrm>
            <a:off x="4535640" y="5084640"/>
            <a:ext cx="17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7B6B-8127-4ABE-A957-EF33F3914CC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17" name="Gerade Verbindung 40"/>
          <p:cNvSpPr/>
          <p:nvPr/>
        </p:nvSpPr>
        <p:spPr>
          <a:xfrm>
            <a:off x="5148360" y="3716280"/>
            <a:ext cx="13683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Gerade Verbindung 14"/>
          <p:cNvSpPr/>
          <p:nvPr/>
        </p:nvSpPr>
        <p:spPr>
          <a:xfrm>
            <a:off x="2556000" y="2205000"/>
            <a:ext cx="13683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Gerade Verbindung 16"/>
          <p:cNvSpPr/>
          <p:nvPr/>
        </p:nvSpPr>
        <p:spPr>
          <a:xfrm>
            <a:off x="1871640" y="3068640"/>
            <a:ext cx="13683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Gerade Verbindung 17"/>
          <p:cNvSpPr/>
          <p:nvPr/>
        </p:nvSpPr>
        <p:spPr>
          <a:xfrm>
            <a:off x="468360" y="4149720"/>
            <a:ext cx="1511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EEDE-B9CE-4875-9D77-A5D9F34EEFB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23" name="Gerade Verbindung 3"/>
          <p:cNvSpPr/>
          <p:nvPr/>
        </p:nvSpPr>
        <p:spPr>
          <a:xfrm>
            <a:off x="1908000" y="3284640"/>
            <a:ext cx="1151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4B32-F312-43E8-8607-42F65357BB9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26" name="Ellipse 3"/>
          <p:cNvSpPr/>
          <p:nvPr/>
        </p:nvSpPr>
        <p:spPr>
          <a:xfrm>
            <a:off x="4284720" y="5950080"/>
            <a:ext cx="71892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Ellipse 4"/>
          <p:cNvSpPr/>
          <p:nvPr/>
        </p:nvSpPr>
        <p:spPr>
          <a:xfrm>
            <a:off x="4356000" y="2060640"/>
            <a:ext cx="576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Ellipse 5"/>
          <p:cNvSpPr/>
          <p:nvPr/>
        </p:nvSpPr>
        <p:spPr>
          <a:xfrm>
            <a:off x="8028000" y="5958000"/>
            <a:ext cx="72072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EC58-D5B6-4601-B672-C4653E4F8EE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31" name="Herz 1"/>
          <p:cNvSpPr/>
          <p:nvPr/>
        </p:nvSpPr>
        <p:spPr>
          <a:xfrm>
            <a:off x="5219640" y="549360"/>
            <a:ext cx="2665440" cy="1439640"/>
          </a:xfrm>
          <a:prstGeom prst="pie">
            <a:avLst/>
          </a:prstGeom>
          <a:solidFill>
            <a:srgbClr val="f1500f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514"/>
                </a:solidFill>
                <a:latin typeface="Cambria"/>
              </a:rPr>
              <a:t>Alles wird gut !!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Cambria"/>
              </a:rPr>
              <a:t>Berliner Haushal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ffffff"/>
                </a:solidFill>
                <a:uFillTx/>
                <a:latin typeface="Cambria"/>
              </a:rPr>
              <a:t>Fazit Einnahm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Nur 33% der Einnahmen unter direktem Einfluss des Landes Berl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Defizit 2011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Plan: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2,7 Mrd. Euro (Quote 12,3 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Ist: 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1,4 Mrd. Euro (Quote 6,4 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Defizitabbau bis 2020 (8 Jahre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Solidarpakt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1,5 Mrd. Eu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Neuverschuldung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1,4 Mrd. Eu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Defizitabbau:     360 - 380 Mio. Euro p.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DCF7-FCC6-4C95-B32D-0DD55DAB586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feil nach rechts 5"/>
          <p:cNvSpPr/>
          <p:nvPr/>
        </p:nvSpPr>
        <p:spPr>
          <a:xfrm>
            <a:off x="539640" y="5805360"/>
            <a:ext cx="1008000" cy="503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2f2f2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0:00:02Z</dcterms:created>
  <dc:creator>Horst</dc:creator>
  <dc:description/>
  <dc:language>en-US</dc:language>
  <cp:lastModifiedBy>mlehofer</cp:lastModifiedBy>
  <dcterms:modified xsi:type="dcterms:W3CDTF">2012-02-14T00:26:19Z</dcterms:modified>
  <cp:revision>103</cp:revision>
  <dc:subject/>
  <dc:title>Folie 1</dc:title>
</cp:coreProperties>
</file>