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0409-53AD-4D43-9CB4-ABFB9A7795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grüß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ä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e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r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nk an Henri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F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Ti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geme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en öffentlich zugänglich (Finanzverwaltung / Senatsverwal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ob an die Verwaltung für gute Übersichtlichkeit der Prä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 = Haushalt 2012 (Verabschiedung  Plan: Pfingsten 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2: keine offiziellen Daten / inoffizelle Entwürfe und  D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7AC-42A8-4D64-B95F-178F979ADD7C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:    22,9 Mrd. EURO 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nahmen unvollständig =&gt; Finanzierungsdefizit feh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immer ausgeglichen    Einnahmen = Ausga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fizit oder Überschü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winne und Verlu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lanzahlen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ute Nachricht:     Neuverschuldung 2011 „nur“ 1,4 – 1,5 Mrd. E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uldenbremse bis 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wang zum ausgeglichenen Haushalt 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Z – Bundesergänzungszuweisungen (zusätzlicher Länderfinanzausglei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C02-02D5-4755-969A-4C16A2EC2E05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ndessteuern  vs. Ländersteu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ew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St Berlin: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E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uereinnahmen unter direktem Einfluss des Landes Berlin 24% (!!!) (GewSt + GrSt + GrESt + Sonstige 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her Einfluss von Konjunktur und Bundespolit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61D-3CBB-4ACE-94DE-DDBB6D61EA9B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uverschuldung EUR 2,7 Mrd. (Plan 20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amteinnahmen = Ausgabe EUR 22,0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fizit 2011: 12,3%  (Griechenland aktuell 8,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1A8-7E10-4E67-A889-FB2B0B27E7A7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melzen der Solidarpaktmittel bis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olidierungsbedarf EUR 1,5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05E-C4D4-43C3-B194-D29CD91B7681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s wird g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blem: Ist abweichend zum Soll 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E7DE-D215-451C-AD2D-D6107BF0B6F0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1BBF-ED10-4969-BFA8-D5B5995DA717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EDFB-9175-412A-A35A-3A9A8F00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3C82-1E99-4017-8BEE-6DEB073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EDEF-852B-44A2-B0AE-4D5770F4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5A28-A685-49BA-BB68-BA5492BF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919-DF22-4F43-A432-2C54D0C9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55C-1380-47C6-9FF5-8504E8A0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52E4-8781-49B4-A6F2-863BD19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2833-B0E1-4BF8-9C0B-E3D0214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9099-205C-468F-8C65-A82353A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737A-EEFB-417A-974E-5E40B7A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5B4-548A-4DE1-8BD3-DDD0372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0417-B573-4952-8E4A-F43D5A28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969-1040-4347-9974-839DB43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E92-1917-454F-B9FA-8BE2716F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EFC-C8E1-4892-891A-3DB80F2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378-F4DE-4E94-A836-B0E06662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F31-9179-4DA5-BAC4-ED37F2D0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E43E-AAF1-4A7E-BA36-5B58D57D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F6F2-75D4-4AA4-AFB0-D65494C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A4CB-0F71-4DE0-A6FB-5D5CCAF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47A7-ADAD-4509-903E-EC9B184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FCEC-69C9-406D-A4E0-CB9DAB7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21D5-DD62-4F43-984A-8CA0E29F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49CE-0A0D-43BF-B4BF-91CA1E3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FB2-FA0A-49F2-BAA2-277B42DFE4F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FC2F-AC91-447D-85D3-C555C76F4D5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 u="sng">
                <a:solidFill>
                  <a:srgbClr val="e5e5ff"/>
                </a:solidFill>
                <a:uFillTx/>
                <a:latin typeface="Cambria"/>
              </a:rPr>
              <a:t>Berliner Haushalt:</a:t>
            </a:r>
            <a:br>
              <a:rPr sz="5400"/>
            </a:br>
            <a:r>
              <a:rPr b="1" lang="de-DE" sz="5400" spc="-1" strike="noStrike">
                <a:solidFill>
                  <a:srgbClr val="e5e5ff"/>
                </a:solidFill>
                <a:latin typeface="Cambria"/>
              </a:rPr>
              <a:t>Einnahmen, Ausgaben, Verschuldung(-swahn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v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r. Franz Josef Schm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WP Tibor Jens Sch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Berlin, 14.12.20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liennummernplatzhalter 1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02A-1C0B-4FFE-8772-92E9AC04FAD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F58-1B0E-4CE5-81DF-A81C89CA828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1"/>
          <p:cNvSpPr/>
          <p:nvPr/>
        </p:nvSpPr>
        <p:spPr>
          <a:xfrm>
            <a:off x="3924360" y="3500280"/>
            <a:ext cx="1224000" cy="649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Gerade Verbindung 3"/>
          <p:cNvSpPr/>
          <p:nvPr/>
        </p:nvSpPr>
        <p:spPr>
          <a:xfrm flipV="1">
            <a:off x="4788000" y="1557360"/>
            <a:ext cx="1655640" cy="172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Gerade Verbindung 5"/>
          <p:cNvSpPr/>
          <p:nvPr/>
        </p:nvSpPr>
        <p:spPr>
          <a:xfrm>
            <a:off x="4535640" y="5084640"/>
            <a:ext cx="17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A037-95CE-4970-AAC2-DE9790D9771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7" name="Gerade Verbindung 40"/>
          <p:cNvSpPr/>
          <p:nvPr/>
        </p:nvSpPr>
        <p:spPr>
          <a:xfrm>
            <a:off x="5148360" y="371628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Gerade Verbindung 14"/>
          <p:cNvSpPr/>
          <p:nvPr/>
        </p:nvSpPr>
        <p:spPr>
          <a:xfrm>
            <a:off x="2556000" y="220500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Gerade Verbindung 16"/>
          <p:cNvSpPr/>
          <p:nvPr/>
        </p:nvSpPr>
        <p:spPr>
          <a:xfrm>
            <a:off x="1871640" y="306864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Gerade Verbindung 17"/>
          <p:cNvSpPr/>
          <p:nvPr/>
        </p:nvSpPr>
        <p:spPr>
          <a:xfrm>
            <a:off x="468360" y="4149720"/>
            <a:ext cx="151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32C1-470B-47F0-9A82-B3E39FCCEAF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3" name="Gerade Verbindung 3"/>
          <p:cNvSpPr/>
          <p:nvPr/>
        </p:nvSpPr>
        <p:spPr>
          <a:xfrm>
            <a:off x="1908000" y="3284640"/>
            <a:ext cx="115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8E15-E41A-46E3-8D42-707761575A1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6" name="Ellipse 3"/>
          <p:cNvSpPr/>
          <p:nvPr/>
        </p:nvSpPr>
        <p:spPr>
          <a:xfrm>
            <a:off x="4284720" y="5950080"/>
            <a:ext cx="7189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Ellipse 4"/>
          <p:cNvSpPr/>
          <p:nvPr/>
        </p:nvSpPr>
        <p:spPr>
          <a:xfrm>
            <a:off x="4356000" y="2060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Ellipse 5"/>
          <p:cNvSpPr/>
          <p:nvPr/>
        </p:nvSpPr>
        <p:spPr>
          <a:xfrm>
            <a:off x="8028000" y="5958000"/>
            <a:ext cx="7207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1EB-7562-4A98-BBCA-8D5B7B2661A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Herz 1"/>
          <p:cNvSpPr/>
          <p:nvPr/>
        </p:nvSpPr>
        <p:spPr>
          <a:xfrm>
            <a:off x="5219640" y="549360"/>
            <a:ext cx="2665440" cy="1439640"/>
          </a:xfrm>
          <a:prstGeom prst="pie">
            <a:avLst/>
          </a:prstGeom>
          <a:solidFill>
            <a:srgbClr val="f1500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514"/>
                </a:solidFill>
                <a:latin typeface="Cambria"/>
              </a:rPr>
              <a:t>Alles wird gut !!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ambria"/>
              </a:rPr>
              <a:t>Berliner Haus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Cambria"/>
              </a:rPr>
              <a:t>Fazit Einnahm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Nur 33% der Einnahmen unter direktem Einfluss des Landes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 2011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Plan: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2,7 Mrd. Euro (Quote 12,3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Ist: 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 (Quote 6,4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 bis 2020 (8 Jahr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Solidarpakt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5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Neuverschuldung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:     360 - 380 Mio. Euro p.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D1A-CA81-461D-BBBD-F1DB232779C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feil nach rechts 5"/>
          <p:cNvSpPr/>
          <p:nvPr/>
        </p:nvSpPr>
        <p:spPr>
          <a:xfrm>
            <a:off x="539640" y="5805360"/>
            <a:ext cx="1008000" cy="503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2f2f2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0:00:02Z</dcterms:created>
  <dc:creator>Horst</dc:creator>
  <dc:description/>
  <dc:language>en-US</dc:language>
  <cp:lastModifiedBy>mlehofer</cp:lastModifiedBy>
  <dcterms:modified xsi:type="dcterms:W3CDTF">2012-02-14T00:26:19Z</dcterms:modified>
  <cp:revision>103</cp:revision>
  <dc:subject/>
  <dc:title>Folie 1</dc:title>
</cp:coreProperties>
</file>